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42343"/>
        <c:axId val="36076423"/>
      </c:barChart>
      <c:catAx>
        <c:axId val="86342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76423"/>
        <c:crosses val="autoZero"/>
        <c:auto val="1"/>
        <c:lblAlgn val="ctr"/>
        <c:lblOffset val="100"/>
        <c:noMultiLvlLbl val="0"/>
      </c:catAx>
      <c:valAx>
        <c:axId val="36076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42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778-B4FC-491F-B6EF-A6F6835C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B9C-8895-493F-AB22-A1D31855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AAE-1F34-48C6-B6EE-DABCE26B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499-AA70-4E21-B17E-2ED54E25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62E-40A6-4F27-BCAB-7063F794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9CE-BC4C-4DFF-B730-C8EEA8A6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3BA-75DB-4565-B964-8D8F0558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69A-315C-4A4E-ABA7-485FEFA0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3F4-2FBC-4B19-856D-621A10DB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D98-5319-44D1-8059-9C06BACB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3CD-B671-4A8D-BB6A-D4A6D0E7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769-0770-4D6A-B6AC-430AB894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569DB-045A-4444-ABCD-5CD1B7E3E8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