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527552"/>
        <c:axId val="16480623"/>
      </c:barChart>
      <c:catAx>
        <c:axId val="895275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80623"/>
        <c:crosses val="autoZero"/>
        <c:auto val="1"/>
        <c:lblAlgn val="ctr"/>
        <c:lblOffset val="100"/>
        <c:noMultiLvlLbl val="0"/>
      </c:catAx>
      <c:valAx>
        <c:axId val="164806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275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FB7A-D13E-4B57-AA94-9161188F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417E-B3A7-4F61-AE9A-C6A2DBF8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DA83-881B-4C20-B4F5-5B5DA3A7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3E06-454D-4274-889C-6EB0E5F5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7AAC-BB40-4C23-8887-A463EBF1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79B4-7D81-4125-8F4F-77C11C23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3935-633B-4C08-91E1-21BE78CC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FA6B-7709-4076-8037-0F560F03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FD82-DBF1-4A4F-A0F2-9CD36A85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9596-C4F6-42B5-9B49-C7A90646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B1A2-8716-4CD9-9268-71D136B9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CCF2-785B-42C6-893F-3E793F76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BD0BA-E326-4544-86F4-2F7926A690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