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85508"/>
        <c:axId val="83968075"/>
      </c:barChart>
      <c:catAx>
        <c:axId val="65385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68075"/>
        <c:crosses val="autoZero"/>
        <c:auto val="1"/>
        <c:lblAlgn val="ctr"/>
        <c:lblOffset val="100"/>
        <c:noMultiLvlLbl val="0"/>
      </c:catAx>
      <c:valAx>
        <c:axId val="83968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85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073-D088-4AC9-B9D8-140A932F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5C6-C1BC-4421-BB19-2BCAB141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406-C7A8-48F4-A1F5-854DFD70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FA08-FE30-41AA-8BFB-958CA701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1B2-74D8-4C53-9658-A21CC995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310-9201-43D8-8D88-7B9699F0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4C5-112B-44E4-A9EF-7B2C1F89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DF7-7899-4F73-AC63-38036C25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1DD-38CC-4EA8-9B59-AEB5E41E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9FA-D2FA-423A-8E38-987AC7CA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3C4-A00C-4976-807C-56E77F4E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50E-E929-4679-9F51-0C197F40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005D4-8C57-4D65-A4FE-A2F931AB38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