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0146"/>
        <c:axId val="69567432"/>
      </c:barChart>
      <c:catAx>
        <c:axId val="1810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67432"/>
        <c:crosses val="autoZero"/>
        <c:auto val="1"/>
        <c:lblAlgn val="ctr"/>
        <c:lblOffset val="100"/>
        <c:noMultiLvlLbl val="0"/>
      </c:catAx>
      <c:valAx>
        <c:axId val="69567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0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E4A-3FBA-402B-A5A7-47B9FB74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EE3-F5BF-41B1-8654-3F0E3873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772-7DB2-41CF-87C2-6E8F7A71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219-2C95-4A3D-8466-F72B0B59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505-2210-49B6-A70F-EEA1799A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3F8-7E9E-48A1-88AB-E4F78B76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DF4-D5B0-48D6-B097-1C376358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5E4-72DB-4AD8-9623-E15D586D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7AC-EEE0-4804-9CB5-9C776933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FB9-D5C0-4B54-95BC-761ECB51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222-AFB9-4B47-A5E4-80250128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6D2-039A-499C-9DAB-B03B419B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BB6A2-45D7-4D59-BE4A-D5CC6B3301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