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08738"/>
        <c:axId val="40085017"/>
      </c:barChart>
      <c:catAx>
        <c:axId val="54108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5017"/>
        <c:crosses val="autoZero"/>
        <c:auto val="1"/>
        <c:lblAlgn val="ctr"/>
        <c:lblOffset val="100"/>
        <c:noMultiLvlLbl val="0"/>
      </c:catAx>
      <c:valAx>
        <c:axId val="40085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08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09F-31F6-438E-ABCB-99B86501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C24-03CF-47BD-AB8C-CB026A66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BA4-D914-4C9C-96FC-E59F578D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C46-1773-443D-ACFC-FF625D1D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CEC-C3AA-47FE-A1C8-56EA410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E94-CFEB-477F-8B0E-E1DFD36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0CD-142C-4660-A070-BEE512D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6DD-B4DB-4751-9014-AC0FE966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D1C-4428-4C5B-9BAD-BD4DC05D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684-6E53-4CB0-BC15-1CEE1CC7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83F-CB47-43E0-AB0C-5E4A85C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7D1-6EC5-41ED-BB71-B07115E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71F6B-7096-4D2D-9D15-510AC10CA0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