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14225"/>
        <c:axId val="90784335"/>
      </c:barChart>
      <c:catAx>
        <c:axId val="97714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84335"/>
        <c:crosses val="autoZero"/>
        <c:auto val="1"/>
        <c:lblAlgn val="ctr"/>
        <c:lblOffset val="100"/>
        <c:noMultiLvlLbl val="0"/>
      </c:catAx>
      <c:valAx>
        <c:axId val="90784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14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385-548A-4604-850F-95F04AB9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16F-CA8B-4A89-98C2-076EB4B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F26-8A31-436C-AD53-1BE81861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92D-66D2-4071-A72C-9BC38CA7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800-5F9E-423A-9662-B77D8E53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D63-36AB-42E4-A134-9DE4807E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E7C-B12D-4C7B-9C78-1E4B907C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F5C-4F22-4E92-A945-8120B8D1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FB0-37AE-477C-A7D0-8F52DF12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194-10F0-4741-A344-9B1EA9A3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5F9-1385-4330-8D72-6BFCE8E2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811-B089-4DC4-BEA5-3983F479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1B1C4-3D15-43EB-B2AE-E6F2338C04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