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189264"/>
        <c:axId val="31727289"/>
      </c:barChart>
      <c:catAx>
        <c:axId val="921892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727289"/>
        <c:crosses val="autoZero"/>
        <c:auto val="1"/>
        <c:lblAlgn val="ctr"/>
        <c:lblOffset val="100"/>
        <c:noMultiLvlLbl val="0"/>
      </c:catAx>
      <c:valAx>
        <c:axId val="317272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1892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606A-6268-4E00-801C-9C7E3FE44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20D0-50AC-4A61-83E2-B518D9D2C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6A31-22C7-4986-98FB-C0706A10A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C8C4-6758-409B-B138-5F7E996D1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37DF-C405-4439-BF93-B14A01E87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98D2-4C31-4528-9B13-B8EE16D68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28A2-AB2A-4CD9-9711-0D0B67E2D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0D60-09A3-485A-BB51-03FFAA0E2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7442-4B88-430E-9C50-F4DCBBF58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9D0B-AD11-4C28-B38B-CA81727C4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F27C-BE1D-41F2-B031-D40C9F03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E2F7-F85F-4E8B-9DBF-819AF780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AEFBA7-BEB3-4D18-8BCB-3258819E4C7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