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368580"/>
        <c:axId val="27425656"/>
      </c:barChart>
      <c:catAx>
        <c:axId val="363685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25656"/>
        <c:crosses val="autoZero"/>
        <c:auto val="1"/>
        <c:lblAlgn val="ctr"/>
        <c:lblOffset val="100"/>
        <c:noMultiLvlLbl val="0"/>
      </c:catAx>
      <c:valAx>
        <c:axId val="274256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685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8AA5-42AE-426B-A9AF-5CAF7AA7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CEBD-D34F-4060-A435-6D9C5FD8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A678-AF8A-40E7-BE14-9F81C1F9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642-CC45-40C5-B40B-5167887A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FE77-0BF1-4A98-AB98-29243957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17E-405D-4496-B530-5361FAF0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5A1C-1118-416E-8731-D44E02FB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D21E-1013-4002-9BA0-3021BE5E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19C3-FA34-41C9-8CEA-C5FC70E3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9441-94D3-4797-B18C-4EEFBB7B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07E0-581D-4BDF-B805-5930ABAE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8671-1CC1-4F30-A4A3-061CDE74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97570-F4B4-4CCB-A15A-3F3C2B634B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