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423145"/>
        <c:axId val="46198679"/>
      </c:barChart>
      <c:catAx>
        <c:axId val="224231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98679"/>
        <c:crosses val="autoZero"/>
        <c:auto val="1"/>
        <c:lblAlgn val="ctr"/>
        <c:lblOffset val="100"/>
        <c:noMultiLvlLbl val="0"/>
      </c:catAx>
      <c:valAx>
        <c:axId val="461986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4231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BE3A-4A74-4F72-A2ED-4CE0EAE92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0486-2E01-4917-B7E5-27B031C7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4859-AA52-4F2E-8577-A8ACF0B23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5355-B683-4F51-B0A2-C2AA8C76D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3FFA-8D83-4C3C-AD6D-9198383A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458B-BBC0-4119-817E-406E3D71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5AFA-25A4-467C-A0EA-5DBADD88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7528-A13B-491D-A83B-4B89852A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28F7-DD55-4FE7-AFA8-02193823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5848-8701-4327-97A2-59CE9C29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A616-6693-443C-A895-C5C4C5C8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1E16-710F-4254-9073-3FE604AD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4D853-F257-4B60-8AA1-22BC06C3AE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