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40679"/>
        <c:axId val="89394629"/>
      </c:barChart>
      <c:catAx>
        <c:axId val="89440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94629"/>
        <c:crosses val="autoZero"/>
        <c:auto val="1"/>
        <c:lblAlgn val="ctr"/>
        <c:lblOffset val="100"/>
        <c:noMultiLvlLbl val="0"/>
      </c:catAx>
      <c:valAx>
        <c:axId val="89394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0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079-EF0B-4331-BBC4-EACD299A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0F6-7FCF-43CF-BE82-F9C35DA4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289-5663-4A94-A7D7-EA259D47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FDE-2517-4465-AAC3-82895497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691-5E42-43D4-8928-4B9E201F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C0A-B808-477D-B43B-673565B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54E-BFCF-480E-B4BF-4225E1EC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5C2-5DA1-49BA-8445-5D8AF12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4C3-FDBF-43A4-B2A8-932BB678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07A-AF48-47F4-A945-6ED992BD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19B-6C93-4C90-9DBA-B6141088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15F-1282-46AA-9A7B-CBC73E38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37961-61B8-4B89-91BB-B816A9102C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