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4103841"/>
        <c:axId val="63212497"/>
      </c:barChart>
      <c:catAx>
        <c:axId val="4410384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212497"/>
        <c:crosses val="autoZero"/>
        <c:auto val="1"/>
        <c:lblAlgn val="ctr"/>
        <c:lblOffset val="100"/>
        <c:noMultiLvlLbl val="0"/>
      </c:catAx>
      <c:valAx>
        <c:axId val="6321249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10384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7999E-DA4F-40CE-8D6C-EA225C6C6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1CDFA-16C0-4B9D-8E82-056591BF7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5FB75-2F8F-466E-9EF9-1250CC15A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C9CBE-2533-4C31-B0AA-0700F50A0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1875F-3538-472C-945A-6FAD9D07D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19E4F-52E9-4435-888C-C9F08FA2E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2BDBE-E1E9-40C0-929B-D5E2D51DB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E0A30-A12D-43DE-A2AD-7CD8275EC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31A16-CDDB-4A0E-BBF0-D0815DC79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3BFFF-F7BF-486D-BBD8-05BCBD0D1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FBED9-B77E-4D80-8B56-EEBB30E73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82901-2D0E-46BB-904D-93CD20F3F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BE6FE2-1C1C-4705-B6AC-914B4A34081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