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67535"/>
        <c:axId val="15710435"/>
      </c:barChart>
      <c:catAx>
        <c:axId val="35067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10435"/>
        <c:crosses val="autoZero"/>
        <c:auto val="1"/>
        <c:lblAlgn val="ctr"/>
        <c:lblOffset val="100"/>
        <c:noMultiLvlLbl val="0"/>
      </c:catAx>
      <c:valAx>
        <c:axId val="15710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67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E89-2381-4D39-9329-A1B50EEA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6B8-CE64-4194-AF6D-D7681E32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227-1BE3-4C6C-9D74-2A1613E3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2EE-EDF0-45BD-82CF-1178835F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E62-BE50-480F-BDE2-A35FCDF3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C06-2303-4762-A4C3-33ECFE15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BFC-E7DB-4FA3-A051-F12460C0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1D9-400D-42EA-BA4F-F60B9AE5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154-CD17-4556-853D-2F5E94EB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FF9-CEF5-4DF0-B55F-CA57E2A7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F16-25B8-4B58-AC63-CD231C3F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F68-7B5A-4AEE-BB5A-80C12504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8611E-08E7-4B8E-90AA-B1FF8070FD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