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6611400"/>
        <c:axId val="44818526"/>
      </c:barChart>
      <c:catAx>
        <c:axId val="7661140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818526"/>
        <c:crosses val="autoZero"/>
        <c:auto val="1"/>
        <c:lblAlgn val="ctr"/>
        <c:lblOffset val="100"/>
        <c:noMultiLvlLbl val="0"/>
      </c:catAx>
      <c:valAx>
        <c:axId val="4481852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61140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E2B59-9571-4ACC-9D14-43CC67501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32F56-4164-4998-B909-A73FC3477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F18AF-2303-4B8A-829D-50C16265F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D128E-8719-4732-B54E-E686EEEE6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1B611-65F0-4DE4-9FE8-53BE5F45D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13B8E-4E93-4E55-ABD9-CEC4C8781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C1F0E-180B-4856-844F-0E681D304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006C2-857E-49CD-9F08-76B49EE73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14B59-A73A-4FA6-9DC7-833822247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21F4E-67D1-4948-960D-2DC2F217C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8382A-CFE3-478D-96F4-0A2981CB4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FC9AC-E5CE-4AE3-B0F0-062A0F577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F39E6C-B457-4AD9-9C1F-0DEBCD711CC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