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91326"/>
        <c:axId val="12496550"/>
      </c:barChart>
      <c:catAx>
        <c:axId val="735913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96550"/>
        <c:crosses val="autoZero"/>
        <c:auto val="1"/>
        <c:lblAlgn val="ctr"/>
        <c:lblOffset val="100"/>
        <c:noMultiLvlLbl val="0"/>
      </c:catAx>
      <c:valAx>
        <c:axId val="12496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913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826-BD8B-496F-B963-77312811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BE4-4B4B-4604-8D71-2586152B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27A-F24E-40A1-8F0F-D77E6BD0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3DE-3150-499E-960F-CB2EA671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387-0CA1-4D30-B62A-E28E0890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4149-4F84-44EC-9967-7EC75995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F4D-AB6B-4139-9694-14A798CD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9EC-A858-418C-B3D2-D945284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0962-845F-4477-A77E-CAE3EF21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817A-181B-481F-914F-33C1FFD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747-B466-4206-910E-8A9D0652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4EE8-9106-4BE8-B4C6-2A606BD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2BCA7-B6F6-4DDC-9DE4-5E68B18B83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